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0995-C10F-4021-B15D-E61EB0538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BE76-972D-4D7D-8DA7-ADF2B9987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18AB-3525-459B-B9CC-06DD08085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00A2-EA8E-4EC4-9094-8AD9BF615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0B69-CB2D-44C1-99F6-5B720E11C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3DB6-5E91-46EF-8A64-2B6F4F658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9222-7636-4F95-ABCB-C1C8E6859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F645-68C7-41B1-8456-64F7F34D4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0C1B-9D12-4F5D-8BA4-3EB5D52C2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F6DC-1255-4C82-A9C3-27A9E01E1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1D13-8AC7-4E4F-9D07-313BC6C33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03BC-71AA-4C5E-9803-56FA7B957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6E18A-623C-4186-A336-DD309E33A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-75240"/>
            <a:ext cx="9147240" cy="701172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ffff00"/>
                </a:solidFill>
                <a:latin typeface="Monotype Corsiva"/>
              </a:rPr>
              <a:t>36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man Old Style"/>
              </a:rPr>
              <a:t>         </a:t>
            </a: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Алилуя! Светло утро -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Bookman Old Style"/>
              </a:rPr>
              <a:t>         </a:t>
            </a: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хубав спомен от Едем!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Bookman Old Style"/>
              </a:rPr>
              <a:t>         </a:t>
            </a: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Днес ме ние от труд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man Old Style"/>
              </a:rPr>
              <a:t>                                  </a:t>
            </a: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свободни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Bookman Old Style"/>
              </a:rPr>
              <a:t>         </a:t>
            </a: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събота е мирен ден!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Bookman Old Style"/>
              </a:rPr>
              <a:t>         </a:t>
            </a: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Осветен от Бога, той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Bookman Old Style"/>
              </a:rPr>
              <a:t>         </a:t>
            </a: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носи радост и покой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45964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54000"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29880"/>
            <a:ext cx="9207360" cy="679824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2. Във този свят съботен час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Bookman Old Style"/>
              </a:rPr>
              <a:t>      </a:t>
            </a: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пълен с едемски покой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Bookman Old Style"/>
              </a:rPr>
              <a:t>      </a:t>
            </a: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Боже, чуй Ти нашия глас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Bookman Old Style"/>
              </a:rPr>
              <a:t>      </a:t>
            </a: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присътвувай между нас!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Bookman Old Style"/>
              </a:rPr>
              <a:t>      </a:t>
            </a: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Благослови всички ни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Bookman Old Style"/>
              </a:rPr>
              <a:t>      </a:t>
            </a: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с Духа Си ни изпълни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0">
    <p:split dir="in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29880"/>
            <a:ext cx="9144000" cy="679824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3. Подкрепи учителите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помажи им устните;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освети слушателите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за да вярват думите!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Върху песни и молби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Bookman Old Style"/>
              </a:rPr>
              <a:t>    </a:t>
            </a: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Твоя "Амин" Ти кажи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2000">
    <p:split dir="in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29880"/>
            <a:ext cx="9144000" cy="679824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4. Помогни деня да свършим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Bookman Old Style"/>
              </a:rPr>
              <a:t>      </a:t>
            </a: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както го започнахме;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Bookman Old Style"/>
              </a:rPr>
              <a:t>      </a:t>
            </a: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волята Ти ние да вършим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Bookman Old Style"/>
              </a:rPr>
              <a:t>      </a:t>
            </a: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Господарю съботни!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Bookman Old Style"/>
              </a:rPr>
              <a:t>      </a:t>
            </a: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Събота да пазим дай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Bookman Old Style"/>
              </a:rPr>
              <a:t>      </a:t>
            </a: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тук и после в вечний рай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8000">
    <p:split dir="in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5T09:25:27Z</dcterms:created>
  <dc:creator>TrifonTrifonow</dc:creator>
  <dc:description/>
  <dc:language>en-US</dc:language>
  <cp:lastModifiedBy>TrifonTrifonow</cp:lastModifiedBy>
  <dcterms:modified xsi:type="dcterms:W3CDTF">2005-10-20T18:46:35Z</dcterms:modified>
  <cp:revision>7</cp:revision>
  <dc:subject/>
  <dc:title>Slide 1</dc:title>
</cp:coreProperties>
</file>